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A1F-05CF-4C7D-AE82-A1F1FBE5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F96-3545-464F-B3DC-909520D2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A04-C4AD-4CBE-84A5-28CF9B9B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88D-D14C-426D-B17A-6FFEAA21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2B6F-0C7A-4E5B-ADBA-81940BB9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206F-2CE0-4164-8841-80C2CABF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329D-C0BA-4AAC-B397-C1CF601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DCE2-EE20-4218-B558-512448A5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5B5F-B0A7-4858-A37B-FA1D3F93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ADD8-8E3E-41AB-B9C1-823C113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E865-E7CB-465A-B7E4-A43536D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CDE-2200-4694-A066-2B794E7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61FB-FF4D-4322-A112-0A320A9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588-C201-470E-B893-13A1120D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BE4D-8638-4683-AA4A-4CFEF364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CC2E-EE9A-4903-8EFB-BE7A796C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D2FD-9FA6-4EFA-A29F-A59B6678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17B6-5918-4F01-900D-5B1729C4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0644-E1B8-409A-900C-05D2DD69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193B-F3FF-4FCE-9549-537685CB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2409-B544-4C44-8C5C-FB077016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5B1B-2C08-4C3E-AA0A-036352E6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73A-C15B-46B0-B289-9B8DEC57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9C7B-A659-40F2-A854-727CEF29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017D-5994-4C92-A064-A0C9E5A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B705-1080-47EC-B78A-E33A3C0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B981-F4A1-4641-AC90-35E4CA0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3895-E9E6-4F5C-B60D-A4D69AB9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19C7-B5F0-4E58-AB27-574DBA2F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6366-FB5F-4597-A4E4-457B3A6E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D39F-F876-47EB-9A02-469A4EC9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E6E9-8C93-479D-B551-DBE5FCB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0A51-5125-4633-9F8D-EE4DA0B1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D5D-B5AB-4830-A83C-57F6230C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5BFF-4208-4A20-B5B2-114119D5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B760E-0F2D-4B1F-A0C4-FD2C4B1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E4C9-09C0-477D-802A-6C78FE48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B6EA-EC6C-40E5-B317-259A508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79BEB-4B82-4639-B888-E202B15D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754F-F09E-4DA8-B578-BA66C62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03E5-6923-4C2A-B168-CACC0AFA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EB8C-8397-440A-9B3C-29E2B3AE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2BC6-2469-4F97-B8C4-37C809A9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69D3-ACC0-4E4D-BB7F-90A6F34F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459-38C2-45F7-937D-99809D2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2B610-2BF7-47EF-AF80-36155FCC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A88F-CB9E-4940-9E44-23307BA5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2C62-FF00-4C08-AF16-2C1DC7F7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A400-BBE2-4ADC-BA0D-268EF8D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7A3D-2836-4326-8B88-622DB1F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444B-9219-4516-8894-830F6BA4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E6C9-0EA1-4AB8-8B02-253077D4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734B-2C4B-4370-AD8D-F84B01B3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E051-E1B2-46AD-9887-472F2CA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DA0A-798A-4091-B1C6-A3D2EA40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6DA-4D74-4878-A3C6-67EF55C0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924E6-C720-4F4C-A8F4-3124C29C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2463-D7FD-4C11-9887-517FA6C5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D98D-32C3-4CD5-88E2-31C5AF80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60789-0D9D-4AE4-8911-24E9C27E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83D5-8B46-4793-8DF3-1AF0E23B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1D529-8C77-4900-B5A8-E4D50CC6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068B4-DFA3-4616-86FF-1F161D85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C3F0-8A23-4D9F-8AE4-8593DEA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07DA5-9636-425C-8E20-37226FB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4E187-13AC-408F-99E0-9EB53D7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96B-F2D7-4B4B-B8C4-80BAD8C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C7A09-C421-4875-951D-4169C968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F62B-21B9-4F54-9298-85490725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28EE1-80DD-4F1D-BE1F-6CC6245E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EC031-7093-433F-96CB-992E1C66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041B9-D225-4B49-B856-5CF2685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0329-45BB-4041-9127-92E65C95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86297-33D0-48FB-A577-C5DF9592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DFA1-94DC-4014-8817-BF578B54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7E4E3-EB96-4280-ABEB-AB3C425F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87B7A-FE97-4E6F-B864-02E8400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CB6-9A23-47C8-BCAD-46390FB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9E9E-AE57-4422-94CD-C8A55569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89CC9-ACC2-44AF-988C-74339E2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3B821-792D-4CF4-A983-8801855F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C7FA-47D4-4503-98F5-CA6A3470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FF80-9A51-45EE-8DC3-144BA1E3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1EC1A-42F0-428C-9663-6CE4C60E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4463-264E-4A1E-B564-6C65F89E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AD3B1-F33F-4291-B88D-6E524F9A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B9AC-5C40-4877-8F2B-4762C10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8BA0-1FB9-42FB-B47F-E69B1F93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917-CA29-4926-8A63-97FB2DA6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A3352-D836-4DB4-AC35-E6A80424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7A3A-BECF-4F9D-9269-6EE1206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32256-D07B-47E1-8603-A389AD7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C6F39-E0A6-4256-9094-B8FDE49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A9CC1-2883-45B5-9BD9-98C1D99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67F71-2CF9-4632-AB36-0539CCBC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DCB96-40CE-4767-8489-80F936F8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15D-0F10-4054-9E72-E1FCE4539D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4221-5B0E-4D0A-A214-E681FD37F6D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FA08-C926-4B10-967C-74EFC675B0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BA7E-0CA8-4D97-94AF-59503C6D8F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E56D-FFB5-4186-AD32-CFEFBCBC29F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B62D-7594-4D6A-8397-249662A553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7786-EC28-4012-9ECA-6782DDC3F3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22C2-1F59-4E0D-AF02-334CEC0247A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it for Vicki to approve you as a member of our class wiki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5" name="Picture 5" descr="Waitfor vicki.png"/>
          <p:cNvPicPr/>
          <p:nvPr/>
        </p:nvPicPr>
        <p:blipFill>
          <a:blip r:embed="rId1"/>
          <a:stretch/>
        </p:blipFill>
        <p:spPr>
          <a:xfrm>
            <a:off x="1295280" y="25146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ikispace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wikispaces home.jpg"/>
          <p:cNvPicPr/>
          <p:nvPr/>
        </p:nvPicPr>
        <p:blipFill>
          <a:blip r:embed="rId3"/>
          <a:stretch/>
        </p:blipFill>
        <p:spPr>
          <a:xfrm>
            <a:off x="1066680" y="2057400"/>
            <a:ext cx="6838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Sign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wikispaces home.jpg"/>
          <p:cNvPicPr/>
          <p:nvPr/>
        </p:nvPicPr>
        <p:blipFill>
          <a:blip r:embed="rId2"/>
          <a:stretch/>
        </p:blipFill>
        <p:spPr>
          <a:xfrm>
            <a:off x="1143000" y="2133720"/>
            <a:ext cx="6838920" cy="3971880"/>
          </a:xfrm>
          <a:prstGeom prst="rect">
            <a:avLst/>
          </a:prstGeom>
          <a:ln w="0">
            <a:noFill/>
          </a:ln>
        </p:spPr>
      </p:pic>
      <p:cxnSp>
        <p:nvCxnSpPr>
          <p:cNvPr id="378" name="Straight Arrow Connector 16"/>
          <p:cNvCxnSpPr/>
          <p:nvPr/>
        </p:nvCxnSpPr>
        <p:spPr>
          <a:xfrm flipV="1">
            <a:off x="5638680" y="3352320"/>
            <a:ext cx="99144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make new ac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Picture 3" descr="Wikisign in.png"/>
          <p:cNvPicPr/>
          <p:nvPr/>
        </p:nvPicPr>
        <p:blipFill>
          <a:blip r:embed="rId1"/>
          <a:stretch/>
        </p:blipFill>
        <p:spPr>
          <a:xfrm>
            <a:off x="914400" y="2209680"/>
            <a:ext cx="7313760" cy="4229280"/>
          </a:xfrm>
          <a:prstGeom prst="rect">
            <a:avLst/>
          </a:prstGeom>
          <a:ln w="0">
            <a:noFill/>
          </a:ln>
        </p:spPr>
      </p:pic>
      <p:cxnSp>
        <p:nvCxnSpPr>
          <p:cNvPr id="382" name="Straight Arrow Connector 5"/>
          <p:cNvCxnSpPr/>
          <p:nvPr/>
        </p:nvCxnSpPr>
        <p:spPr>
          <a:xfrm flipH="1">
            <a:off x="4342680" y="3808800"/>
            <a:ext cx="1524600" cy="305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no to make a wiki. Click j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Joinwiki.png"/>
          <p:cNvPicPr/>
          <p:nvPr/>
        </p:nvPicPr>
        <p:blipFill>
          <a:blip r:embed="rId2"/>
          <a:stretch/>
        </p:blipFill>
        <p:spPr>
          <a:xfrm>
            <a:off x="1219320" y="2819520"/>
            <a:ext cx="6684840" cy="3114720"/>
          </a:xfrm>
          <a:prstGeom prst="rect">
            <a:avLst/>
          </a:prstGeom>
          <a:ln w="0">
            <a:noFill/>
          </a:ln>
        </p:spPr>
      </p:pic>
      <p:cxnSp>
        <p:nvCxnSpPr>
          <p:cNvPr id="386" name="Straight Arrow Connector 6"/>
          <p:cNvCxnSpPr/>
          <p:nvPr/>
        </p:nvCxnSpPr>
        <p:spPr>
          <a:xfrm flipH="1">
            <a:off x="4343040" y="2970720"/>
            <a:ext cx="9914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username at 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5"/>
          <p:cNvCxnSpPr/>
          <p:nvPr/>
        </p:nvCxnSpPr>
        <p:spPr>
          <a:xfrm>
            <a:off x="1523520" y="1981080"/>
            <a:ext cx="266796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your class as a favorite wik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943600" cy="4110120"/>
          </a:xfrm>
          <a:prstGeom prst="rect">
            <a:avLst/>
          </a:prstGeom>
          <a:ln w="0">
            <a:noFill/>
          </a:ln>
        </p:spPr>
      </p:pic>
      <p:cxnSp>
        <p:nvCxnSpPr>
          <p:cNvPr id="394" name="Straight Arrow Connector 5"/>
          <p:cNvCxnSpPr/>
          <p:nvPr/>
        </p:nvCxnSpPr>
        <p:spPr>
          <a:xfrm flipH="1">
            <a:off x="4343040" y="2057040"/>
            <a:ext cx="1753200" cy="19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class wiki na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43600" cy="3504960"/>
          </a:xfrm>
          <a:prstGeom prst="rect">
            <a:avLst/>
          </a:prstGeom>
          <a:ln w="0">
            <a:noFill/>
          </a:ln>
        </p:spPr>
      </p:pic>
      <p:cxnSp>
        <p:nvCxnSpPr>
          <p:cNvPr id="398" name="Straight Arrow Connector 5"/>
          <p:cNvCxnSpPr/>
          <p:nvPr/>
        </p:nvCxnSpPr>
        <p:spPr>
          <a:xfrm flipH="1">
            <a:off x="2666160" y="1980000"/>
            <a:ext cx="1677240" cy="839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Join This Wiki to become a 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memberwiki.png"/>
          <p:cNvPicPr/>
          <p:nvPr/>
        </p:nvPicPr>
        <p:blipFill>
          <a:blip r:embed="rId2"/>
          <a:stretch/>
        </p:blipFill>
        <p:spPr>
          <a:xfrm>
            <a:off x="914400" y="2514600"/>
            <a:ext cx="73137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402" name="Straight Arrow Connector 8"/>
          <p:cNvCxnSpPr/>
          <p:nvPr/>
        </p:nvCxnSpPr>
        <p:spPr>
          <a:xfrm flipH="1">
            <a:off x="2437920" y="2208600"/>
            <a:ext cx="1524960" cy="1143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6:04Z</dcterms:created>
  <dc:creator> </dc:creator>
  <dc:description/>
  <dc:language>en-US</dc:language>
  <cp:lastModifiedBy> </cp:lastModifiedBy>
  <dcterms:modified xsi:type="dcterms:W3CDTF">2011-01-23T01:31:08Z</dcterms:modified>
  <cp:revision>4</cp:revision>
  <dc:subject/>
  <dc:title>Wikispaces Accounts</dc:title>
</cp:coreProperties>
</file>